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FABC-E3B7-4304-81F4-593347F4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444C-44EE-4E78-99F9-994E6AA0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9A6E-3179-4FAC-841A-271393A0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B375-2357-4D3C-A30A-E7550401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5CFE5-D828-402A-B5AC-21B9D041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E2692-7D35-4594-942A-38B12D7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0C4E-AB32-4741-BF71-8F856B1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FD752-8C82-46D8-BAF8-9F72347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3C52A-4D51-4BA1-957D-3E03B2D6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09ED5-99E3-4006-B843-CC6EF717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82A86-5E41-41BA-81B8-08E606A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A526-3DBF-469A-B672-FC0AD62A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93359-79DC-47E9-84CA-4E77629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04CA7-5D7D-444C-8F83-03A1270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733BE-170B-40C5-93C2-05D11E59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B0B76-15BD-4DAF-A644-22C1EF7B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0A1D-83E0-41B0-93F2-CA041618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8434-E08B-4CE5-8109-4710F8DB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5FDD-E2E1-4E74-B8BA-00B7D9E8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B5D9-C32C-4DC1-85C0-6EC7795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3FCD-9200-4CEE-B410-01B50F18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100C-10EF-4059-99EC-BC1EB70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D34F-1EAB-4720-A667-67964CB5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D635-ABD2-4C2F-BAAE-0EBCEB2A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8ADD-E8E8-4ECD-A6F2-8972EB4262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842920" y="624852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219720" y="189000"/>
            <a:ext cx="260028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1EE5-89DA-4013-80EF-38E9D32215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2843280" y="624852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15876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tudies on User Level Device Driver</a:t>
            </a:r>
            <a:br>
              <a:rPr sz="3600"/>
            </a:b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n Embedded Environment</a:t>
            </a:r>
            <a:br>
              <a:rPr sz="3600"/>
            </a:b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Progress Report</a:t>
            </a:r>
            <a:r>
              <a:rPr b="0" i="1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atsuya Matsub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GEL Co.,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340F1-CE30-47AF-B12E-B10BF85F26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CPU Lock, Realtime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ith RT Threads, to Some Ext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 b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61CE-4C96-46D4-A204-395CCC07A2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erial Driver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mplementation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TS7751R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nesas SH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M501 companion chip embedding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250 compa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 modes: 1 byte I/O and FIFO buffer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 2.6.1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_PREEMPT=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 2.3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FD0E-3B36-4E90-8FF9-A7B40956F4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rupt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ceiv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mptying Send Buffer[?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/O Memory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M501 Register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0AE2-A659-40E7-A21F-4C112B4608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71640" y="4149720"/>
            <a:ext cx="720072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20920" y="5079960"/>
            <a:ext cx="56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42920" y="4221000"/>
            <a:ext cx="3313080" cy="576360"/>
            <a:chOff x="1042920" y="4221000"/>
            <a:chExt cx="3313080" cy="576360"/>
          </a:xfrm>
        </p:grpSpPr>
        <p:sp>
          <p:nvSpPr>
            <p:cNvPr id="131" name=""/>
            <p:cNvSpPr/>
            <p:nvPr/>
          </p:nvSpPr>
          <p:spPr>
            <a:xfrm>
              <a:off x="104292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I/O Memory Map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0" y="4221000"/>
            <a:ext cx="3313080" cy="576360"/>
            <a:chOff x="4572000" y="4221000"/>
            <a:chExt cx="3313080" cy="576360"/>
          </a:xfrm>
        </p:grpSpPr>
        <p:sp>
          <p:nvSpPr>
            <p:cNvPr id="134" name=""/>
            <p:cNvSpPr/>
            <p:nvPr/>
          </p:nvSpPr>
          <p:spPr>
            <a:xfrm>
              <a:off x="4572000" y="4221000"/>
              <a:ext cx="3313080" cy="576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32360" y="4294080"/>
              <a:ext cx="2592360" cy="3682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Interrupt Hook D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348000" y="5661000"/>
            <a:ext cx="2376360" cy="576360"/>
            <a:chOff x="3348000" y="5661000"/>
            <a:chExt cx="2376360" cy="576360"/>
          </a:xfrm>
        </p:grpSpPr>
        <p:sp>
          <p:nvSpPr>
            <p:cNvPr id="137" name=""/>
            <p:cNvSpPr/>
            <p:nvPr/>
          </p:nvSpPr>
          <p:spPr>
            <a:xfrm>
              <a:off x="3348000" y="5661000"/>
              <a:ext cx="2376360" cy="5763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ffff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06480" y="5734080"/>
              <a:ext cx="18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501 U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771640" y="2060640"/>
            <a:ext cx="4392720" cy="172872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44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14172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276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492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708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306864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284640"/>
            <a:ext cx="72072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500280"/>
            <a:ext cx="720720" cy="216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276640"/>
            <a:ext cx="1295640" cy="1366560"/>
          </a:xfrm>
          <a:prstGeom prst="downArrow">
            <a:avLst>
              <a:gd name="adj1" fmla="val 50000"/>
              <a:gd name="adj2" fmla="val 26368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02280" y="3424320"/>
            <a:ext cx="730440" cy="865080"/>
          </a:xfrm>
          <a:custGeom>
            <a:avLst/>
            <a:gdLst/>
            <a:ahLst/>
            <a:rect l="l" t="t" r="r" b="b"/>
            <a:pathLst>
              <a:path w="460" h="545">
                <a:moveTo>
                  <a:pt x="460" y="0"/>
                </a:moveTo>
                <a:lnTo>
                  <a:pt x="251" y="54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6800" y="3429000"/>
            <a:ext cx="1789200" cy="860400"/>
          </a:xfrm>
          <a:custGeom>
            <a:avLst/>
            <a:gdLst/>
            <a:ahLst/>
            <a:rect l="l" t="t" r="r" b="b"/>
            <a:pathLst>
              <a:path w="1127" h="542">
                <a:moveTo>
                  <a:pt x="0" y="542"/>
                </a:moveTo>
                <a:lnTo>
                  <a:pt x="628" y="385"/>
                </a:lnTo>
                <a:lnTo>
                  <a:pt x="1127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2276640"/>
            <a:ext cx="1295280" cy="1366560"/>
          </a:xfrm>
          <a:prstGeom prst="downArrow">
            <a:avLst>
              <a:gd name="adj1" fmla="val 50000"/>
              <a:gd name="adj2" fmla="val 26376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2565360"/>
            <a:ext cx="13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2492280"/>
            <a:ext cx="208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s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ART D.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ata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1844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74D9-7A4F-42A5-A8A8-D2B2C53922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nterrupt Hook Dri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89000"/>
            <a:ext cx="395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060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int irqhook_proc_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truct inode *inop, struct file *fil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quest_irq(ipp-&gt;irq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rqhook_proc_irq_handl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A_INTERRUP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-&gt;dev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p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565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c ssize_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hook_proc_read(struct file *fil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ar  __user *buf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ize_t len, loff_t *ppo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repare_to_wa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&amp;ipp-&gt;q, &amp;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ASK_INTERRUPTI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ending = atomic_read(&amp;ipp-&gt;cou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pending == 0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chedu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BBD2-3861-4681-9AB1-33BB740237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/O Memory Map Dri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2276640"/>
            <a:ext cx="7632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 iommap_mmap(struct file *filp, struct vm_area_struct *vma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ze_t size = vma-&gt;vm_end - vma-&gt;vm_sta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signed long offset = vma-&gt;vm_pgoff &lt;&lt; PAGE_SHI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RESER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flags |= VM_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vma-&gt;vm_page_prot = pgprot_noncached(vma-&gt;vm_page_pro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* Map each page to users' virtual memory spac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_remap_page_range(vma, vma-&gt;vm_star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offset, size, vma-&gt;vm_page_pro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-EAGA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B6E2-190A-49B9-ACA4-7B66AC468C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UART Drive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91628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ad(fd, &amp;n_pending, sizeof(int) &gt; 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 ((status =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M501_UART0_LINESTAT(&amp;iomem)) &amp; 0x0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uffer[count]= SM501_UART0_RXBUFF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us = SM501_UART0_LINESTAT(&amp;iome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count &gt;= BUFFER_SIZ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op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u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f(loop &gt;= LOOP_COUNT) goto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 while((status &amp; 0x01)&amp;&amp;(max_count-- &gt; 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9F98-2885-403F-8F82-A7F17B2050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Just started experiment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rial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asured throughput with 1MB READ/WRITE for serial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d SM501 byte I/O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ernel drivers are those included in 2.6.1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r level device driver was executed as RT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r level device driver was integrated with serial I/O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nnected R2D board and note PC(TeraTerm) with serial cross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835E-E9F5-40B9-8316-D61E27DA10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Experiment Resul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2205000"/>
          <a:ext cx="7777440" cy="1997280"/>
        </p:xfrm>
        <a:graphic>
          <a:graphicData uri="http://schemas.openxmlformats.org/drawingml/2006/table">
            <a:tbl>
              <a:tblPr/>
              <a:tblGrid>
                <a:gridCol w="1872000"/>
                <a:gridCol w="1527120"/>
                <a:gridCol w="1425600"/>
                <a:gridCol w="1511280"/>
                <a:gridCol w="1441440"/>
              </a:tblGrid>
              <a:tr h="444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5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6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.34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Level 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9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8k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82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.70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436572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Siz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ffer Siz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ud R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00 or 38400 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esured valu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verage of the 10 trial results of the sam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4A93-0DF8-4452-9C14-C7315BEA4E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egligible Overhead At least in Low Load Environment (where no one intervene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LDD is rather faster for 38.4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serves analysis – My action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 Stability, Ease of Coding and Debugging, and Abundance of User Land Features are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E4FB-F337-4B14-A428-B1F00CD4DF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Stories so far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stigated behaviors of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 Task vs Non-RT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3193920"/>
            <a:ext cx="374472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8000" y="3216240"/>
            <a:ext cx="3744720" cy="2841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24720" y="60930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umber of Load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5440" y="602136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umber of Load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3880" y="2997360"/>
            <a:ext cx="30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witching Time(WRITE Task-&gt;Vertual DD-&gt;Read Ta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1480" y="2997360"/>
            <a:ext cx="189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akeup Vertual DD-&gt;Read Ta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84360" y="3860280"/>
            <a:ext cx="33264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sponse Time(micro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3933360"/>
            <a:ext cx="33264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sponse Time(micros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8323-A33D-412A-BEB4-31B4EE5B46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havior in Heavy Loa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T tasks / Non-RT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mparison with P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valuation with Other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ummary of Characteristics of Kernel Level Device Drivers and User Level Device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eking for Novelt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ECC5-DA66-43D9-948F-1AF5E09363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C33C-B217-4B9D-B8C4-FF9AEF385C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Background and Objectiv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nt to implement device drivers in us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asy to devle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duce system down due to driver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void GP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me issues on implementing user level device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ccess to I/O memory,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orwarding of Interupttion Reques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sponse performance to inte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‥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features in Kernel 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PTL(Native POSIX Thread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ceduler improvem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(1) scheduler etc.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rnel pree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D0647-C750-4456-BA1F-12BA66582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Facts in Development of Embedded Softwar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re development of drivers for new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pplications directly control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 minimize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intimate relation between devices and applications, thant desktop P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ding hardwar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6E4B-44FD-4C8C-B3E4-F7B045B286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User Level Device Driver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Implementing Device Drivers in Us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of abundant tools/libraries (e.g.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ase of development and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ss system hang 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ss distance to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late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ter Chubb, “Get more device drivers out of kernel,” OLS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CFE7-33F6-4FAC-BD25-B9F2D84A67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Features Required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for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cess to I/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evice control through register I/O, data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rupt Receipt and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hysical Memory Allocation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cessary for devices which access directly to memory using DM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case of DMA, allocation of consecutive memory may b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ock of CP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441E-9434-4587-B05B-806C9893EB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terrupt Receipt and Handling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rupt Reciept by File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epare device files for each interrup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ad() the device file and block until interrupt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A736-0A76-409B-9DB6-B510D9C172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Memory Access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 Access to I/O Memory with Memory Map(mm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pen(), mmap() the /dev/mem or specific devic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nce mmap’ed, then accessible as u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or Physical Memory, Allocate, then m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DD64-82F7-4839-9D75-B2638F15E9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terface to Applications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in User Level Device Driver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 User Level Device Driver can Exist in the Same User Space as Applications, Such Interfaces as Interprocess Communications, Shared Memory, etc. can Implem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sy to Integrate wit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C80E-3692-4687-AE36-5250F4C509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1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3:55:23Z</dcterms:created>
  <dc:creator>Katsuya Matsubara</dc:creator>
  <dc:description/>
  <dc:language>en-US</dc:language>
  <cp:lastModifiedBy>Takao Ikoma</cp:lastModifiedBy>
  <dcterms:modified xsi:type="dcterms:W3CDTF">2006-02-15T10:10:29Z</dcterms:modified>
  <cp:revision>73</cp:revision>
  <dc:subject/>
  <dc:title>DirectFB Issues for CE</dc:title>
</cp:coreProperties>
</file>